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A00-705A-469B-A61A-547C734B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E5E-16A1-43AA-889E-B9EF469B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B94-030C-4A36-8235-A27B2E15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758-12F6-4A9F-9580-114DBAA7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1BAA-3A60-4F7E-BDC9-1B5FFC31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CD72-34C2-4F46-A443-CBFA6DA3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5C7F-42C1-4A27-B671-3C560739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F598-0680-4E8B-B067-A896827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0F05-A3CB-4EE3-8BC6-FBE0949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2BB-BA20-4DD8-8AC0-7F8FBC9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B222-DC72-4750-97F3-0C4C62EA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3E5-A710-4727-9B8C-2DBBE97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E323-AE41-48FD-A2BE-00CD5D99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EB21-AE3D-4819-BA86-222CA4B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2E15-9355-4251-9CB9-778063CC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D05D-E6B0-4D55-ACFD-766A37A7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8748-3F45-45A8-B208-5E72CF3F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1AFE-A2F0-4C9A-B5C2-33194B20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2D86-F50F-4928-9660-980798E6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EBCF-DF94-4098-AC4C-E477BDD5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BF8C-ECFC-4C10-A8F1-80A034BD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C239-DCA0-4EA8-975D-AC97AA61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3EF-E216-4C07-9464-7A02E92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192F-A3A9-4D8D-8C75-8E92DC5F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48621-CD9D-493B-98DA-A8099BD9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E9D1-9991-48D7-9481-6DF7E7E1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BE052-67B4-4A97-81E3-71FCE775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916CC-231A-4054-81A2-0DCE1EE6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1252-741A-4EB4-836E-A573351B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5565-7586-431B-9DA7-F2F33012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74FE-33D0-4FCE-8514-FE8F4F15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A38B5-E185-4AE2-979F-F8052A3D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19709-801D-47DC-BD1C-E9358400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CD8-7222-4D64-8222-246C6B0E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9254-B4D3-463E-8465-6B035435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6DB39-42E0-4241-A512-593074C8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D546-2BA3-481D-86F9-48371E1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5DD3C-377E-4976-ADC7-0BD5237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5774-EBB6-4885-B6BC-4F15C84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EED5-854E-40C1-B841-C0826C9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B03F-C46F-46DE-ACED-3629DC6D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0F3B-C7B0-4A97-8B70-BA49BA9D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FDCE-4F29-440D-8CA9-700400BE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20FF4-4B67-451D-A5CB-BFAC667A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4C6-8DA0-4F7A-82E3-61C61DFC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E034-9961-4F51-9016-EF519F27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48A9-BD88-4EB5-9C03-90781A56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D8F0-4863-471F-977C-973B1AEA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9344-100D-44BB-8A5D-8A05769A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399FA-4360-4C83-A90A-A6BCAAA8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FF8C-716C-4BB4-B591-CAAC9AF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829B-3B8F-41A3-8105-69122D96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EDD82-8B54-45A6-BB22-B4E4A40A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1C412-42C1-4322-8C2C-7117B898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D509B-D17B-43D2-9CDF-4A992A81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37F-2714-46CD-95B8-59CE88D6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37241-A2FB-48FF-9B4C-AF78CDCC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8D1-FB29-45CD-895C-37EBF2B9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8C0-251C-468D-BD08-12A014A7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6C2-9E18-4233-9447-4E55137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B4A4-FF34-4E37-A025-6E9F24E2BDFE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C4FE-45E7-4598-BA7B-4D61A1A19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7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98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00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01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03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104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6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8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B8D8-7B37-4679-9E8C-0B2C684921B1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2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53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55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56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58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59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1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6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C1C6-610D-408A-B865-FA1E763AFAC2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0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212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3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215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6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8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62B1-2433-4740-88A8-25725166BF06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14320" y="2362320"/>
            <a:ext cx="572292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nstantia"/>
              </a:rPr>
              <a:t>The Hamilton-Burr Duel: The Peak of Political Tensions</a:t>
            </a: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571176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Franklin Gothic Book"/>
              </a:rPr>
              <a:t>Nathan Harri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Franklin Gothic Book"/>
              </a:rPr>
              <a:t>Period 7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y Objec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student will be able to decide who they believe succeeded in Hamilton and Burr’s life long battl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MS90261.wav" descr=""/>
          <p:cNvPicPr/>
          <p:nvPr/>
        </p:nvPicPr>
        <p:blipFill>
          <a:blip r:embed="rId1"/>
          <a:stretch/>
        </p:blipFill>
        <p:spPr>
          <a:xfrm>
            <a:off x="8229600" y="152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Users\Harris\AppData\Local\Microsoft\Windows\Temporary Internet Files\Content.IE5\A64IGZNS\MC900232446[1].wmf"/>
          <p:cNvPicPr/>
          <p:nvPr/>
        </p:nvPicPr>
        <p:blipFill>
          <a:blip r:embed="rId2"/>
          <a:stretch/>
        </p:blipFill>
        <p:spPr>
          <a:xfrm>
            <a:off x="0" y="0"/>
            <a:ext cx="9067680" cy="6829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178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lexander Hamilt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4600" y="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aron Burr, Jr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Hits That Coun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-3492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3492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Due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0" descr="http://t1.gstatic.com/images?q=tbn:ANd9GcSXCORGg8Eqq1Lyl0NFn3CASSSylxuhEaO5I5u4oOItiGs_E4SaR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69645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Afterma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63400" y="2119320"/>
            <a:ext cx="6195960" cy="360360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2"/>
          <p:cNvSpPr/>
          <p:nvPr/>
        </p:nvSpPr>
        <p:spPr>
          <a:xfrm>
            <a:off x="81000" y="-928800"/>
            <a:ext cx="2352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81000" y="-928800"/>
            <a:ext cx="2352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81000" y="-928800"/>
            <a:ext cx="2352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81000" y="-928800"/>
            <a:ext cx="2352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89000" y="0"/>
            <a:ext cx="696600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ank you for listening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5:57:16Z</dcterms:created>
  <dc:creator>Harris</dc:creator>
  <dc:description/>
  <dc:language>en-US</dc:language>
  <cp:lastModifiedBy>Mount Lebanon School District</cp:lastModifiedBy>
  <dcterms:modified xsi:type="dcterms:W3CDTF">2011-03-10T17:38:22Z</dcterms:modified>
  <cp:revision>10</cp:revision>
  <dc:subject/>
  <dc:title>PowerPoint Presentation</dc:title>
</cp:coreProperties>
</file>